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5DA-8039-4208-95E8-F0B66984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1AD-100D-427D-9AB2-079143FA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0CE-4B1F-496B-9097-69C5746D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25D-7F9E-4802-ADA2-CF2D635B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44B9-F8E7-403C-9B9E-FF82D70F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BD025-5BAF-4A44-8812-F2C7DBD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5F24C-6839-4D47-915B-BB463267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13FF-77D3-4259-B091-CD105889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B8007-7543-40B5-AEBE-92DC76A4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BF0E2-5C72-4BCA-90B3-E793416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BD190-A43F-4B2C-B018-BA1770F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DB1-7E22-4628-9CC0-F86F4EEF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294C4-BF51-447B-9EF1-EF67AD6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2BA8B-B4B9-483D-86B4-B25F88D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CBDE3-3A24-4331-BD3B-AE1D772B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85C21-A15E-4638-97AB-7255D245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93538-0F16-4011-9F12-1B8D7B15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08D-FDF5-4B66-A11D-0F04EA12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A6C-70E3-478C-BB0D-20353CBD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373-7176-4064-95DE-6D62AC93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18A-3B82-435F-8444-55B52DFE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CB7-E7CC-4632-84D2-10740ED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DC2-2C84-43B3-A2FB-3E918A50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416-AAD0-469D-9EE1-0EA97F7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BB7-107D-4B25-A933-A8C3D8B3C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6D9-786F-44A2-A819-602637C092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«Огнедышащие горы»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33560" y="5409720"/>
            <a:ext cx="5181480" cy="1295640"/>
          </a:xfrm>
          <a:prstGeom prst="rect">
            <a:avLst/>
          </a:prstGeom>
          <a:solidFill>
            <a:srgbClr val="897c1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Выполнила Болдырева Мария Андреевн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(Сыктывкар,2010год)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Что есть энергия ?»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419720" y="2286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11"/>
          <p:cNvSpPr txBox="1"/>
          <p:nvPr/>
        </p:nvSpPr>
        <p:spPr>
          <a:xfrm>
            <a:off x="1905120" y="685800"/>
            <a:ext cx="58100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сновной вопрос проект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entury Schoolbook"/>
              </a:rPr>
              <a:t>Вопросы</a:t>
            </a:r>
            <a:r>
              <a:rPr b="0" lang="ru-RU" sz="2800" spc="-1" strike="noStrike">
                <a:solidFill>
                  <a:srgbClr val="0000ff"/>
                </a:solidFill>
                <a:latin typeface="Century Schoolbook"/>
              </a:rPr>
              <a:t>, которые мы не оставим без ответов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Что такое вулкан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Всегда ли из вулканов изливается лава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Все ли извержения вулканов одинаковы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Как образуются вулканы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Какое извержение было самым страшным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Где находится большинство вулканов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Какие районы земного шара мы можем назвать сейсмически и вулканически активными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                 </a:t>
            </a: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Методические задачи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расширить и углубить знания о вулканах и их строении, познакомить с географией их размещения;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выявить причины возникновения вулканов, гейзеров и горячих источников;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развивать умения сравнивать, анализировать, делать выводы;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формировать представлений о профессиях, связанных с науками географического направления, заинтересованное отношение к учебе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Предоставление результатов исследования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Журнал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Видеоклип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Информационный буклет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Эсс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Творческое задани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Фоторепортаж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Продолжительность проекта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66"/>
              </a:solidFill>
              <a:latin typeface="Century Schoolbook"/>
            </a:endParaRPr>
          </a:p>
        </p:txBody>
      </p:sp>
      <p:sp>
        <p:nvSpPr>
          <p:cNvPr id="97" name="Овальная выноска 3"/>
          <p:cNvSpPr/>
          <p:nvPr/>
        </p:nvSpPr>
        <p:spPr>
          <a:xfrm>
            <a:off x="3581280" y="4267080"/>
            <a:ext cx="2057400" cy="1524240"/>
          </a:xfrm>
          <a:prstGeom prst="wedgeEllipseCallout">
            <a:avLst>
              <a:gd name="adj1" fmla="val -30148"/>
              <a:gd name="adj2" fmla="val 77884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7 ча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Этапы проведения проекта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Выбор и формулировка темы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Поиск информаци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Самостоятельная работа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Защита проекта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Стрелка вниз 3"/>
          <p:cNvSpPr/>
          <p:nvPr/>
        </p:nvSpPr>
        <p:spPr>
          <a:xfrm>
            <a:off x="4343400" y="2590920"/>
            <a:ext cx="484200" cy="60948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Стрелка вниз 4"/>
          <p:cNvSpPr/>
          <p:nvPr/>
        </p:nvSpPr>
        <p:spPr>
          <a:xfrm>
            <a:off x="4419720" y="4191120"/>
            <a:ext cx="484200" cy="60948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Стрелка вниз 10"/>
          <p:cNvSpPr/>
          <p:nvPr/>
        </p:nvSpPr>
        <p:spPr>
          <a:xfrm>
            <a:off x="4495680" y="5486400"/>
            <a:ext cx="484200" cy="5205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Информационные ресурсы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Материалы на печатной основе: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учебники, методические пособия, справочники, энциклопедии, журналы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0-04-01T17:44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